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99B-C037-4A38-91B6-B3AECD44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04D-811F-4D87-B65F-3717FAA0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BED-565B-4B97-9C99-D7574141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9CF-9DE3-410D-9FAB-EA16C920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AFAA-7166-4D42-8061-BD4AFBF6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69A2-9B7A-47F3-8C91-4D16479F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C520-53D3-495B-AD53-0BDF13BE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8583-AF45-49ED-99C3-84B87F6B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B623-1B07-4871-95AF-7E6547E4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5751-E397-420C-973B-534148EB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1222-B88E-4A9F-9960-DBB0942D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FFB-571E-4527-BC6F-5C2D9466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411D-13B8-4123-BBD2-E6B21005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AD6E-DF9C-4552-AF11-B01D4199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D060-9260-4F12-8229-128D86C4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85A5-3FC6-42D2-8AD3-176AA7DC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00FB-FFFE-4720-AFB4-32FAE6E5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7CE-2093-4467-9F2B-092F91DA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98E-1D1D-4080-99F4-59F152C2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5E7-1C1A-4060-871F-EF4592AA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9BF-0CF5-4BC0-A001-2F4F9E13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727-EDB2-4945-AFB1-91CDCCCA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52C-3FC6-45E8-B399-E61736EE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7EA-34E5-46B7-B656-58332100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EA8B-C3A6-45DC-A373-CBE39183B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831B-41DC-4A3C-97A0-F082CEB19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hapter 11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LAVES AND MASTER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dricks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ia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ss  </a:t>
            </a: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6338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lave Rebellions and Uprisings, 1800–183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DIVI7233214"/>
          <p:cNvPicPr/>
          <p:nvPr/>
        </p:nvPicPr>
        <p:blipFill>
          <a:blip r:embed="rId1"/>
          <a:stretch/>
        </p:blipFill>
        <p:spPr>
          <a:xfrm>
            <a:off x="2549520" y="1600200"/>
            <a:ext cx="4043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ree Blacks in the Old Sou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free blacks severely restri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 of solidarity with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unable to hel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sion increased as time pas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860, some state legislatures were proposing laws to force free blacks to emigrate or be ensl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605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ite Society in the Antebellum Sout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small percentage of slave owners lived in aristocratic ma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1% of the white population owned 50 or more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outhern whites were yeomen farm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Planters' Worl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lanters set tone, values of Southern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er wealth bas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spe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 tr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tton pla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ations managed as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tic ideals imitated only by ric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3808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lanters and Paternalis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ers prided themselves on paterna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living standard for Southern slaves than others in Western Hemi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decent treatment due in part to their increasing economic value after 18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ers actually dealt little with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 managed by overse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ent coercion accepted by all pla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3808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mall Slavehold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conditions worst with fewer than 20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share the master's 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at the complete mercy of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s often worked alongside th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laves would have preferred the economic and cultural stability of the pla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3808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Yeomen Farm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armers resented large plan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spired to planter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aw slavery as guaranteeing their own liberty and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viewed as a system for keeping blacks "in their plac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6662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 Closed Mind and a Closed Socie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ers feared growth of aboli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ers encouraged closing of r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defended as a positive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s depicted as infer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 defended with B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 a humane asylum to improve Afric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 superior to Northern wage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ry points of view sup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5748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lavery and the Southern Econom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Southerners perceived their economic interests to be tied to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South:  Slave plantation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South:  Farming and slave-trading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Internal Slave Tra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ed farming in Virginia and Mary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less labor, mor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South sold slaves to lower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ginia, Maryland, and Kentucky took on characteristics of industrializing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al loyalty of upper South unc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Divided Society of the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ld Sout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lth divided white Southerners by c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society also divided by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society also divided with about 6%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e divided all Southerners by c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lave Concentration, 182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DIVI7233220"/>
          <p:cNvPicPr/>
          <p:nvPr/>
        </p:nvPicPr>
        <p:blipFill>
          <a:blip r:embed="rId1"/>
          <a:stretch/>
        </p:blipFill>
        <p:spPr>
          <a:xfrm>
            <a:off x="1098720" y="1600200"/>
            <a:ext cx="6946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3808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Rise of the Cotton Kingd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Short-staple" cotton drove cotton b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tton gin made seed extraction ea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-round requirements suited to slave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tton in Georgia, South Carolina, Alabama, Mississippi, Arkansas, Louisiana, east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planters dominated cotton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50: South produced 75% of world's cotton, cotton the most important U.S.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lave Concentration, 186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DIVI7233221"/>
          <p:cNvPicPr/>
          <p:nvPr/>
        </p:nvPicPr>
        <p:blipFill>
          <a:blip r:embed="rId1"/>
          <a:stretch/>
        </p:blipFill>
        <p:spPr>
          <a:xfrm>
            <a:off x="1292400" y="1600200"/>
            <a:ext cx="655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lavery and Industrializ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ers resented dependence on Northern industry, 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ers project industrial sche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posed using free white lab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proposed the use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 worked in Southern fa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cotton profits discouraged shift to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"Profitability" Issu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not profitable for South as a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small farmers had lower living standards than most Northern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s from cotton not well-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system resulted in waste of human resources, Southern under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3808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orlds in Confli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Southern wor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affluent wh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bl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d together by plantation economy, web of customary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World of Southern Black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resistance of Southern ideology, r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aspiration to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sychic survi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lped create and maintain a unique African American ethn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laves’ Daily Life and Lab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slaves lived on plantations or f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laves on cotton plantations worked sunup to sundown, 6 days/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75% of slaves were field workers, about 5% worked in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 slaves had more autonomy than rural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lave Families, Kinship,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d Commun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family life difficult for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s cannot always protect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es vulnerable to breakup by m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ared in strong, two-parent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ed families provide nurture, support amid horror of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culture a family culture that provided a sense of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rican American Relig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Christianity the cornerstone of an emerging African American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s fear religion’s subversive potential, try to supervise churches and pr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religion kept secret from wh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ffirmed the inherent joy of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ached the inevitable day of lib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sistance and Rebell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0: Gabriel Prosser rebellion fell apart because of violent st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2: Denmark Ves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-planned conspiracy for slaves to seize armory and then take Charleston s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31: Nat Turner led bloodiest and most terrifying slave rev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35–1842: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minol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s escaped and joined Semin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Content Placeholder 6" descr="Image-9_Nat-Turner.jpeg"/>
          <p:cNvPicPr/>
          <p:nvPr/>
        </p:nvPicPr>
        <p:blipFill>
          <a:blip r:embed="rId1"/>
          <a:srcRect l="-22186" t="0" r="-22186" b="0"/>
          <a:stretch/>
        </p:blipFill>
        <p:spPr>
          <a:xfrm>
            <a:off x="4572000" y="152388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16" name="Content Placeholder 7" descr="Photo5315.jpeg"/>
          <p:cNvPicPr/>
          <p:nvPr/>
        </p:nvPicPr>
        <p:blipFill>
          <a:blip r:embed="rId2"/>
          <a:srcRect l="0" t="-5428" r="0" b="-5428"/>
          <a:stretch/>
        </p:blipFill>
        <p:spPr>
          <a:xfrm>
            <a:off x="838080" y="1676520"/>
            <a:ext cx="3886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sistance and Rebell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away often aided by the Underground 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-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slowd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o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on m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ies, songs asserting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20:07:02Z</dcterms:created>
  <dc:creator>CMU</dc:creator>
  <dc:description/>
  <cp:keywords/>
  <dc:language>en-US</dc:language>
  <cp:lastModifiedBy>Matthew Myers</cp:lastModifiedBy>
  <cp:lastPrinted>2012-10-11T23:32:59Z</cp:lastPrinted>
  <dcterms:modified xsi:type="dcterms:W3CDTF">2011-10-19T14:11:26Z</dcterms:modified>
  <cp:revision>12</cp:revision>
  <dc:subject/>
  <dc:title>MASTERS AND SLAVES</dc:title>
</cp:coreProperties>
</file>